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F106A-D46B-43BB-8423-0C29CB6DB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C1C79-77AC-49E1-A4CB-314BF02CB9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AB057-F3F4-403F-88D7-6D2BCFC6F1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B0743-048D-49D7-9EB8-5CE891F2DA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C207-3B77-4AB9-A088-82F6F60153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2B8AA-65AD-404F-90AC-8C2234AF1E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66EB3-F9D2-45B2-AAA4-FB7F233B03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B411C-F6E7-4122-9DCF-14A529EDF4A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D4E1D-45BD-4ECD-96D5-54DE9D70B09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C5A25-39AE-4FCC-9B80-4D2CF870E3A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962E7-D892-4B6D-A4EB-D6A006F210E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EDACF-19DB-417D-BE47-2A1D265502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989D1-DF63-4CB8-BA0B-59759E8936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E7757-4A8E-4E2A-BEB1-3CB335D2E70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05A94-30FC-45E2-A93C-41983E46FA7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9BFE3-88BD-4BC7-B6A0-89DE102D62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FF15-341B-479A-A08A-A858B2C764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0EAD8-E52F-4B0A-B86A-54FD3063C8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6A96E-6A00-4073-8EDA-8D70AE7516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E8C3-2CDE-4EC3-A3D5-6F838C169B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BA9B5-A08A-46CC-ACF0-3DA6E8199A5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ADF95-5568-4781-AFE6-40C20E89401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718F6-680A-43D9-B2E5-B5660393B4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F61CC-94DE-4803-90D3-AC44F1D039B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B6CE7-5A84-40C5-B6B7-4FB107DE01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2DC18-6F60-486F-8898-E85CF171DB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CF4F-B3CB-4BA2-93A6-8267C43117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6D294-8573-4082-AE02-342C766D46A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F0CB3-67BC-4186-BE19-79A6C26EF22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0420E-C1D4-4709-BFBC-293E20F405B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C0E54-129C-4F90-9F03-7EC4A13AC2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0F99-8BC2-4FF1-83B6-B43D664BD5C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1F45A-CD24-4A39-A21B-7B9F58E85F4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56269-6FD7-4EEB-9BB7-CB4EF9C4E3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5A8AE-4D37-4D02-B9E7-A28D535F28A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E7A74-949A-4EB5-BC9F-A3D7A7F7D25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36E1-3552-4B3F-89BD-9FE5CB36683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EFDA1-8C73-4E3B-8B5A-BCE6169788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8F322-96CF-4053-8C7C-63A70E02B8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B40F-023A-4A32-8B83-38F8BECE5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360" y="404028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C52F-8CAB-49D3-BA49-6428BB844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435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31E2-FBEA-4BE2-8227-A15506FB4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468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7900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36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468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7900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1593-B27D-4753-9724-0C31703E5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507E-82DF-4628-AF46-27D9FEF88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488D-394C-49EC-9F62-44D07C9D1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CDA8-2FD1-4F9D-90B4-CE293D611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598B-FBAF-4EA9-8B44-938DA44C9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320" y="990360"/>
            <a:ext cx="67820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6174-34A9-4638-A9AF-1EFEC83DF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E582-9892-4A73-A055-E352F4DC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435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EC27-477F-4415-8774-66180E5A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3CEE-8470-409B-8F79-CF6F41AF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08440" indent="-2214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551960" indent="-2214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1995480" indent="-2214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1995480" indent="-2214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1995480" indent="-2214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1A91A-1322-4A72-8BC2-7B90656089EB}" type="slidenum">
              <a:rPr b="0" lang="en-US" sz="1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88640" y="1371240"/>
            <a:ext cx="6705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2" name="Picture 4" descr="Photo 20"/>
          <p:cNvPicPr/>
          <p:nvPr/>
        </p:nvPicPr>
        <p:blipFill>
          <a:blip r:embed="rId2"/>
          <a:stretch/>
        </p:blipFill>
        <p:spPr>
          <a:xfrm>
            <a:off x="1143000" y="160020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Photo 21"/>
          <p:cNvPicPr/>
          <p:nvPr/>
        </p:nvPicPr>
        <p:blipFill>
          <a:blip r:embed="rId3"/>
          <a:stretch/>
        </p:blipFill>
        <p:spPr>
          <a:xfrm>
            <a:off x="4952880" y="1600200"/>
            <a:ext cx="2667240" cy="2000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Photo 22"/>
          <p:cNvPicPr/>
          <p:nvPr/>
        </p:nvPicPr>
        <p:blipFill>
          <a:blip r:embed="rId4"/>
          <a:stretch/>
        </p:blipFill>
        <p:spPr>
          <a:xfrm>
            <a:off x="2971800" y="3581280"/>
            <a:ext cx="287028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mma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618660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ISTS- Whenever you see lists containing 3 or more items of anything in a sentence, you must place a comma between each item.  Insert commas where needed in the following sentenc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xampl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Paul Mark Brett and Derek prepared served and ate some food that was delicious and healthy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72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ommas- Adjectives and Introduction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69343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DJECTIVES-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f you see 2 or more adjectives before a noun, you must place a comma between the adjectives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ample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The beautiful young reindeer is dead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2"/>
          <a:stretch/>
        </p:blipFill>
        <p:spPr>
          <a:xfrm>
            <a:off x="3352680" y="3538440"/>
            <a:ext cx="312444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88640" y="1371240"/>
            <a:ext cx="67057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TRODUCTIONS-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A comma should follow any phrase or word that introduces a sentences: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amples: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In this course, students learn how to master the ACT.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Eventually, Jennifer scored a 36 on the ACT English Tes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mas- Removable Phras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618660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movable Phrases-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Commas should surround a non-essential, modifying phrase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xample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My dad, 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who is over 65 years old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, is retired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f you remove who is over 65 years old, it does NOT impact the central meaning of the sentence.  The phrase provides additional information, but it is NOT essential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mas- Essential Modifying Phras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4920" y="2057040"/>
            <a:ext cx="618660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mmas should NOT surround an essential modifying phrase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eople </a:t>
            </a:r>
            <a:r>
              <a:rPr b="1" lang="en-US" sz="2800" spc="-1" strike="noStrike">
                <a:solidFill>
                  <a:srgbClr val="99090e"/>
                </a:solidFill>
                <a:latin typeface="Verdana"/>
              </a:rPr>
              <a:t>who are over 65 years old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are often retire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 this case, if you remove who are over 65 years old, you would be left with a sentence that has a much different meaning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CLAUS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94920" y="1905120"/>
            <a:ext cx="6186600" cy="29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DEPENDENT CLAUSE-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a complete thought that contains at least a subject and a verb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xamples of Independent clauses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701"/>
                </a:solidFill>
                <a:latin typeface="Verdana"/>
              </a:rPr>
              <a:t>The dog at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701"/>
                </a:solidFill>
                <a:latin typeface="Verdana"/>
              </a:rPr>
              <a:t>Joe failed the assignmen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701"/>
                </a:solidFill>
                <a:latin typeface="Verdana"/>
              </a:rPr>
              <a:t>Sinclair loves wooden bon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90720" y="1219320"/>
            <a:ext cx="5867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clause that </a:t>
            </a:r>
            <a:r>
              <a:rPr b="0" lang="en-US" sz="2400" spc="-1" strike="noStrike">
                <a:solidFill>
                  <a:srgbClr val="66ffff"/>
                </a:solidFill>
                <a:latin typeface="Verdana"/>
              </a:rPr>
              <a:t>makes sens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by itself is an </a:t>
            </a:r>
            <a:r>
              <a:rPr b="0" lang="en-US" sz="2400" spc="-1" strike="noStrike">
                <a:solidFill>
                  <a:srgbClr val="99ff33"/>
                </a:solidFill>
                <a:latin typeface="Verdana"/>
              </a:rPr>
              <a:t>independent claus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clause that </a:t>
            </a:r>
            <a:r>
              <a:rPr b="0" lang="en-US" sz="2400" spc="-1" strike="noStrike">
                <a:solidFill>
                  <a:srgbClr val="66ffff"/>
                </a:solidFill>
                <a:latin typeface="Verdana"/>
              </a:rPr>
              <a:t>does not make sens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by itself is a </a:t>
            </a:r>
            <a:r>
              <a:rPr b="0" lang="en-US" sz="2400" spc="-1" strike="noStrike">
                <a:solidFill>
                  <a:srgbClr val="99ff33"/>
                </a:solidFill>
                <a:latin typeface="Verdana"/>
              </a:rPr>
              <a:t>dependent claus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complex sentence contains an independent and dependent claus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990360" y="1219320"/>
            <a:ext cx="693396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99ff33"/>
                </a:solidFill>
                <a:uFillTx/>
                <a:latin typeface="Verdana"/>
              </a:rPr>
              <a:t>Independent clause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ffffff"/>
                </a:solidFill>
                <a:uFillTx/>
                <a:latin typeface="Verdana"/>
              </a:rPr>
              <a:t>Native Americans lived on the island</a:t>
            </a:r>
            <a:r>
              <a:rPr b="0" lang="en-US" sz="35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n-US" sz="3500" spc="-1" strike="noStrike">
                <a:solidFill>
                  <a:srgbClr val="ffffff"/>
                </a:solidFill>
                <a:latin typeface="Verdana"/>
              </a:rPr>
              <a:t>until they were attacked.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>
                <a:solidFill>
                  <a:srgbClr val="66ffff"/>
                </a:solidFill>
                <a:latin typeface="Verdana"/>
              </a:rPr>
              <a:t>Dependent clause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Line 6"/>
          <p:cNvSpPr/>
          <p:nvPr/>
        </p:nvSpPr>
        <p:spPr>
          <a:xfrm>
            <a:off x="2362320" y="1828800"/>
            <a:ext cx="190476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 flipV="1">
            <a:off x="4038480" y="4191120"/>
            <a:ext cx="106704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Claus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42640" y="1905120"/>
            <a:ext cx="6186600" cy="29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EPENDENT CLAUSES-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n incomplete thought composed of at least a subject and a verb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77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ffa72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a726"/>
                </a:solidFill>
                <a:latin typeface="Verdana"/>
              </a:rPr>
              <a:t>Although we studied for seventeen hours straigh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ffa72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a726"/>
                </a:solidFill>
                <a:latin typeface="Verdana"/>
              </a:rPr>
              <a:t>When you look in the cabinet beneath the microwav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ffa72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a726"/>
                </a:solidFill>
                <a:latin typeface="Verdana"/>
              </a:rPr>
              <a:t>Because he was a fabulous musicia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ffa72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a726"/>
                </a:solidFill>
                <a:latin typeface="Verdana"/>
              </a:rPr>
              <a:t>If you finish your homework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rite 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or 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for independent or dependent claus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.  if you live on an island______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.  the tides affect your life______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3.  the water level rises_____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4.  when the tide comes in_____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5.  much of the beach disappears under water_____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6.  until the tide goes out_____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ACT English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3048120" y="2133720"/>
            <a:ext cx="33051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67820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Colons (; &amp; :)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14300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micolons and colons are often used as incorrect answers on the English Test, so you must understand how to use them properly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MICOLONS (;) can be used to replace a period when 2 independent clauses are closely related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88640" y="1371240"/>
            <a:ext cx="67057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amples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You don’t study the ACT because it’s fun.  You study the ACT because you want to go to college.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                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99090e"/>
                </a:solidFill>
                <a:latin typeface="Verdana"/>
              </a:rPr>
              <a:t>OR</a:t>
            </a:r>
            <a:br>
              <a:rPr sz="2000"/>
            </a:b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You don’t study the ACT because it’s fun; you study the ACT because you want to go to college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oth versions are correct.  When you see a semicolon, make sure it separates 2 independent clauses; otherwise, it is incorrec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lons (:)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618660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LONS are generally used to introduce a lis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xample-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We ate a magnificent dinner</a:t>
            </a:r>
            <a:r>
              <a:rPr b="0" i="1" lang="en-US" sz="2800" spc="-1" strike="noStrike">
                <a:solidFill>
                  <a:srgbClr val="99090e"/>
                </a:solidFill>
                <a:latin typeface="Verdana"/>
              </a:rPr>
              <a:t>: lobster, shrimp, steak, and rib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ip- Make sure that you DO NOT confuse the colon with the semicolon as they are obviously used for very different purposes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t’s vs. it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62160" y="2405160"/>
            <a:ext cx="6186240" cy="29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It’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(abbreviation of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it i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It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(the possessive form of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i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int: Plug in </a:t>
            </a:r>
            <a:r>
              <a:rPr b="0" i="1" lang="en-US" sz="2800" spc="-1" strike="noStrike">
                <a:solidFill>
                  <a:srgbClr val="ff7a2c"/>
                </a:solidFill>
                <a:latin typeface="Verdana"/>
              </a:rPr>
              <a:t>it i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and see if it makes sense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y’re vs. their vs. the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6186600" cy="29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They’r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99090e"/>
                </a:solidFill>
                <a:latin typeface="Verdana"/>
              </a:rPr>
              <a:t>(abbreviation for </a:t>
            </a:r>
            <a:r>
              <a:rPr b="1" lang="en-US" sz="2400" spc="-1" strike="noStrike">
                <a:solidFill>
                  <a:srgbClr val="99090e"/>
                </a:solidFill>
                <a:latin typeface="Verdana"/>
              </a:rPr>
              <a:t>they are</a:t>
            </a:r>
            <a:r>
              <a:rPr b="0" lang="en-US" sz="2400" spc="-1" strike="noStrike">
                <a:solidFill>
                  <a:srgbClr val="99090e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Their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99090e"/>
                </a:solidFill>
                <a:latin typeface="Verdana"/>
              </a:rPr>
              <a:t>(the possessive form of</a:t>
            </a:r>
            <a:r>
              <a:rPr b="1" lang="en-US" sz="2400" spc="-1" strike="noStrike">
                <a:solidFill>
                  <a:srgbClr val="99090e"/>
                </a:solidFill>
                <a:latin typeface="Verdana"/>
              </a:rPr>
              <a:t> they</a:t>
            </a:r>
            <a:r>
              <a:rPr b="0" lang="en-US" sz="2400" spc="-1" strike="noStrike">
                <a:solidFill>
                  <a:srgbClr val="99090e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Ther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99090e"/>
                </a:solidFill>
                <a:latin typeface="Verdana"/>
              </a:rPr>
              <a:t>(indicates location or used as expletiv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Examples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They’r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a really nice coupl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Their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dog is very lazy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Ther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are no paper towels lef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6781680" cy="100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Grammatical Agreemen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218960"/>
            <a:ext cx="67053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rammatical disagreement occurs when the words within a sentence do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OT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work well together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pronoun should match the antecedent/subject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7a2c"/>
              </a:buClr>
              <a:buFont typeface="Verdan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a2c"/>
                </a:solidFill>
                <a:latin typeface="Verdana"/>
              </a:rPr>
              <a:t>Incorrect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The </a:t>
            </a:r>
            <a:r>
              <a:rPr b="1" lang="en-US" sz="2000" spc="-1" strike="noStrike">
                <a:solidFill>
                  <a:srgbClr val="99090e"/>
                </a:solidFill>
                <a:latin typeface="Verdana"/>
              </a:rPr>
              <a:t>team run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up the hill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7f2e"/>
              </a:buClr>
              <a:buFont typeface="Verdan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f2e"/>
                </a:solidFill>
                <a:latin typeface="Verdana"/>
              </a:rPr>
              <a:t>Correct</a:t>
            </a:r>
            <a:r>
              <a:rPr b="0" lang="en-US" sz="2000" spc="-1" strike="noStrike">
                <a:solidFill>
                  <a:srgbClr val="ff7f2e"/>
                </a:solidFill>
                <a:latin typeface="Verdana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The </a:t>
            </a:r>
            <a:r>
              <a:rPr b="1" lang="en-US" sz="2000" spc="-1" strike="noStrike">
                <a:solidFill>
                  <a:srgbClr val="99090e"/>
                </a:solidFill>
                <a:latin typeface="Verdana"/>
              </a:rPr>
              <a:t>team run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up the hill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7f2e"/>
              </a:buClr>
              <a:buFont typeface="Verdan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f2e"/>
                </a:solidFill>
                <a:latin typeface="Verdana"/>
              </a:rPr>
              <a:t>Incorrect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</a:t>
            </a:r>
            <a:r>
              <a:rPr b="1" lang="en-US" sz="2000" spc="-1" strike="noStrike">
                <a:solidFill>
                  <a:srgbClr val="99090e"/>
                </a:solidFill>
                <a:latin typeface="Verdana"/>
              </a:rPr>
              <a:t>company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an out of money, so </a:t>
            </a:r>
            <a:r>
              <a:rPr b="1" lang="en-US" sz="2000" spc="-1" strike="noStrike">
                <a:solidFill>
                  <a:srgbClr val="99090e"/>
                </a:solidFill>
                <a:latin typeface="Verdana"/>
              </a:rPr>
              <a:t>they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ent out of busines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7f2e"/>
              </a:buClr>
              <a:buFont typeface="Verdan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f2e"/>
                </a:solidFill>
                <a:latin typeface="Verdana"/>
              </a:rPr>
              <a:t>Correct: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</a:t>
            </a:r>
            <a:r>
              <a:rPr b="1" lang="en-US" sz="2000" spc="-1" strike="noStrike">
                <a:solidFill>
                  <a:srgbClr val="99090e"/>
                </a:solidFill>
                <a:latin typeface="Verdana"/>
              </a:rPr>
              <a:t>company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an out of money, so </a:t>
            </a:r>
            <a:r>
              <a:rPr b="1" lang="en-US" sz="2000" spc="-1" strike="noStrike">
                <a:solidFill>
                  <a:srgbClr val="99090e"/>
                </a:solidFill>
                <a:latin typeface="Verdana"/>
              </a:rPr>
              <a:t>it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went out of business.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88640" y="1371240"/>
            <a:ext cx="67057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000" spc="-1" strike="noStrike">
                <a:solidFill>
                  <a:srgbClr val="ff7f2e"/>
                </a:solidFill>
                <a:latin typeface="Verdana"/>
              </a:rPr>
              <a:t>Incorrect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If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1" lang="en-US" sz="2000" spc="-1" strike="noStrike">
                <a:solidFill>
                  <a:srgbClr val="99090e"/>
                </a:solidFill>
                <a:latin typeface="Verdana"/>
              </a:rPr>
              <a:t>student pays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ittle attention in class, </a:t>
            </a:r>
            <a:r>
              <a:rPr b="1" lang="en-US" sz="2000" spc="-1" strike="noStrike">
                <a:solidFill>
                  <a:srgbClr val="99090e"/>
                </a:solidFill>
                <a:latin typeface="Verdana"/>
              </a:rPr>
              <a:t>they won’t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mprove their  score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7f2e"/>
                </a:solidFill>
                <a:latin typeface="Verdana"/>
              </a:rPr>
              <a:t>Correct: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f  </a:t>
            </a:r>
            <a:r>
              <a:rPr b="1" lang="en-US" sz="2000" spc="-1" strike="noStrike">
                <a:solidFill>
                  <a:srgbClr val="99090e"/>
                </a:solidFill>
                <a:latin typeface="Verdana"/>
              </a:rPr>
              <a:t>students pay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ittle attention in class, </a:t>
            </a:r>
            <a:r>
              <a:rPr b="1" lang="en-US" sz="2000" spc="-1" strike="noStrike">
                <a:solidFill>
                  <a:srgbClr val="99090e"/>
                </a:solidFill>
                <a:latin typeface="Verdana"/>
              </a:rPr>
              <a:t>they </a:t>
            </a:r>
            <a:r>
              <a:rPr b="0" lang="en-US" sz="2000" spc="-1" strike="noStrike">
                <a:solidFill>
                  <a:srgbClr val="99090e"/>
                </a:solidFill>
                <a:latin typeface="Verdana"/>
              </a:rPr>
              <a:t>w</a:t>
            </a:r>
            <a:r>
              <a:rPr b="1" lang="en-US" sz="2000" spc="-1" strike="noStrike">
                <a:solidFill>
                  <a:srgbClr val="99090e"/>
                </a:solidFill>
                <a:latin typeface="Verdana"/>
              </a:rPr>
              <a:t>on’t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mprove their scores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r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7f2e"/>
                </a:solidFill>
                <a:latin typeface="Verdana"/>
              </a:rPr>
              <a:t>Correct: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f a </a:t>
            </a:r>
            <a:r>
              <a:rPr b="1" lang="en-US" sz="2000" spc="-1" strike="noStrike">
                <a:solidFill>
                  <a:srgbClr val="99090e"/>
                </a:solidFill>
                <a:latin typeface="Verdana"/>
              </a:rPr>
              <a:t>student pays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ittle attention in class, </a:t>
            </a:r>
            <a:r>
              <a:rPr b="1" lang="en-US" sz="2000" spc="-1" strike="noStrike">
                <a:solidFill>
                  <a:srgbClr val="99090e"/>
                </a:solidFill>
                <a:latin typeface="Verdana"/>
              </a:rPr>
              <a:t>he or she won’t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mprove </a:t>
            </a:r>
            <a:r>
              <a:rPr b="1" lang="en-US" sz="2000" spc="-1" strike="noStrike">
                <a:solidFill>
                  <a:srgbClr val="99090e"/>
                </a:solidFill>
                <a:latin typeface="Verdana"/>
              </a:rPr>
              <a:t>his or her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core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838080"/>
            <a:ext cx="67820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Verb Tens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47920" y="3657600"/>
            <a:ext cx="350496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amp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We want you to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search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, identify, and eliminate incorrect answers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81480" y="3657240"/>
            <a:ext cx="3353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. No Chang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. be search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. have search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. search fo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990720" y="1752480"/>
            <a:ext cx="65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dealing with lists of verbs, make sure that the verbs are of the </a:t>
            </a:r>
            <a:r>
              <a:rPr b="1" lang="en-US" sz="2400" spc="-1" strike="noStrike">
                <a:solidFill>
                  <a:srgbClr val="99090e"/>
                </a:solidFill>
                <a:latin typeface="Arial"/>
              </a:rPr>
              <a:t>same tense and consistent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t may  be helpful to remove the other verbs from the list to help eliminate wrong answ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English Guessing Strategy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42640" y="2209320"/>
            <a:ext cx="618660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at do I do if I have absolutely no idea what is going on in a certain question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ry the famous GOSH strategy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se this strategy only for the English portion of the AC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Picture 5" descr="Photo 4"/>
          <p:cNvPicPr/>
          <p:nvPr/>
        </p:nvPicPr>
        <p:blipFill>
          <a:blip r:embed="rId2"/>
          <a:stretch/>
        </p:blipFill>
        <p:spPr>
          <a:xfrm>
            <a:off x="6553080" y="3809880"/>
            <a:ext cx="16876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88640" y="1371240"/>
            <a:ext cx="6705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Picture 4" descr="GOSH"/>
          <p:cNvPicPr/>
          <p:nvPr/>
        </p:nvPicPr>
        <p:blipFill>
          <a:blip r:embed="rId1"/>
          <a:stretch/>
        </p:blipFill>
        <p:spPr>
          <a:xfrm>
            <a:off x="1781280" y="0"/>
            <a:ext cx="5762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can you expect?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at equals 9 minutes per passage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1841760" y="1765440"/>
            <a:ext cx="20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5 Ques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1856880" y="2303640"/>
            <a:ext cx="196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 Pass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1830600" y="2819520"/>
            <a:ext cx="384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Questions per pass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1905120" y="327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1830960" y="3352680"/>
            <a:ext cx="18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5 Minu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ubject vs. Objec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618660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onouns change when used in different cases (subject, object, or possesiv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a72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a726"/>
                </a:solidFill>
                <a:latin typeface="Verdana"/>
              </a:rPr>
              <a:t>The University of Illinois accepted Justin, Jim, and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99090e"/>
                </a:solidFill>
                <a:latin typeface="Verdana"/>
              </a:rPr>
              <a:t>I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76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s almost sounds correct BUT it’s not.The sentence is properly written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a72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a726"/>
                </a:solidFill>
                <a:latin typeface="Verdana"/>
              </a:rPr>
              <a:t>The University of Illinois accepted Justin, Jim, and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99090e"/>
                </a:solidFill>
                <a:latin typeface="Verdana"/>
              </a:rPr>
              <a:t>me</a:t>
            </a:r>
            <a:r>
              <a:rPr b="0" lang="en-US" sz="2000" spc="-1" strike="noStrike">
                <a:solidFill>
                  <a:srgbClr val="99090e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62160" y="2405160"/>
            <a:ext cx="6186240" cy="29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University of Illinois accepted I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University of Illinois accepted m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o it yourself.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262160" y="2405160"/>
            <a:ext cx="6186240" cy="29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Justin, Jim, and ____ went to the University of Illinois.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ragment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294920" y="1905120"/>
            <a:ext cx="6186600" cy="29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complete sentences AKA fragments are the most common sentence structure error. You will often see a sentence that is composed of only a </a:t>
            </a:r>
            <a:r>
              <a:rPr b="1" lang="en-US" sz="2400" spc="-1" strike="noStrike">
                <a:solidFill>
                  <a:srgbClr val="ff7f2e"/>
                </a:solidFill>
                <a:latin typeface="Verdana"/>
              </a:rPr>
              <a:t>dependent</a:t>
            </a:r>
            <a:r>
              <a:rPr b="0" lang="en-US" sz="2400" spc="-1" strike="noStrike">
                <a:solidFill>
                  <a:srgbClr val="ff7f2e"/>
                </a:solidFill>
                <a:latin typeface="Verdana"/>
              </a:rPr>
              <a:t> claus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You can easily turn a </a:t>
            </a:r>
            <a:r>
              <a:rPr b="1" lang="en-US" sz="2400" spc="-1" strike="noStrike">
                <a:solidFill>
                  <a:srgbClr val="99090e"/>
                </a:solidFill>
                <a:latin typeface="Verdana"/>
              </a:rPr>
              <a:t>dependent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clause into an </a:t>
            </a:r>
            <a:r>
              <a:rPr b="1" lang="en-US" sz="2400" spc="-1" strike="noStrike">
                <a:solidFill>
                  <a:srgbClr val="99090e"/>
                </a:solidFill>
                <a:latin typeface="Verdana"/>
              </a:rPr>
              <a:t>independent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clause by removing what we call the </a:t>
            </a:r>
            <a:r>
              <a:rPr b="1" lang="en-US" sz="2400" spc="-1" strike="noStrike">
                <a:solidFill>
                  <a:srgbClr val="99090e"/>
                </a:solidFill>
                <a:latin typeface="Verdana"/>
              </a:rPr>
              <a:t>handcuff</a:t>
            </a:r>
            <a:r>
              <a:rPr b="0" lang="en-US" sz="2400" spc="-1" strike="noStrike">
                <a:solidFill>
                  <a:srgbClr val="99090e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Exampl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6186600" cy="29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649"/>
              </a:spcBef>
              <a:buClr>
                <a:srgbClr val="ff7f2e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7f2e"/>
                </a:solidFill>
                <a:latin typeface="Verdana"/>
              </a:rPr>
              <a:t>Because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the dog ate a bone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63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^handcuff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63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his is a </a:t>
            </a:r>
            <a:r>
              <a:rPr b="1" lang="en-US" sz="2600" spc="-1" strike="noStrike">
                <a:solidFill>
                  <a:srgbClr val="ff7f2e"/>
                </a:solidFill>
                <a:latin typeface="Verdana"/>
              </a:rPr>
              <a:t>fragmen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63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he dog ate a bone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63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his </a:t>
            </a:r>
            <a:r>
              <a:rPr b="0" lang="en-US" sz="2600" spc="-1" strike="noStrike">
                <a:solidFill>
                  <a:srgbClr val="ff7f2e"/>
                </a:solidFill>
                <a:latin typeface="Verdana"/>
              </a:rPr>
              <a:t>is grammatically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correct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63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263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Verdana"/>
              </a:rPr>
              <a:t>TIP:</a:t>
            </a: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 If a sentence seems incomplete, it is potentially a fragment.  The answer choices often contain handcuffs, commas or semicolons in different location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Line 5"/>
          <p:cNvSpPr/>
          <p:nvPr/>
        </p:nvSpPr>
        <p:spPr>
          <a:xfrm flipV="1">
            <a:off x="2209680" y="243792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ma Splic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94920" y="1905120"/>
            <a:ext cx="6186600" cy="29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ヒラギノ角ゴ Pro W3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ヒラギノ角ゴ Pro W3"/>
              </a:rPr>
              <a:t>_x0001_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comma splice attempts to use the following combinatio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Independent (comma) Independent (period)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90e"/>
                </a:solidFill>
                <a:latin typeface="Verdana"/>
              </a:rPr>
              <a:t>EX: The dog ate his homework, Joe failed the assignmen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s is not a legal combo because it is missing a conjuction (and, or, or but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Run-On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94920" y="1752120"/>
            <a:ext cx="618660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49"/>
              </a:spcBef>
              <a:buClr>
                <a:srgbClr val="ff7f2e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7f2e"/>
                </a:solidFill>
                <a:latin typeface="Verdana"/>
              </a:rPr>
              <a:t>Run-on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sentences are the same as comma splices without the comma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91600" indent="-291600">
              <a:lnSpc>
                <a:spcPct val="90000"/>
              </a:lnSpc>
              <a:spcBef>
                <a:spcPts val="649"/>
              </a:spcBef>
              <a:buClr>
                <a:srgbClr val="99090e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90e"/>
                </a:solidFill>
                <a:latin typeface="Verdana"/>
              </a:rPr>
              <a:t>EX: The dog ate his homework Joe failed the assignment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Verdana"/>
              </a:rPr>
              <a:t>TIP:</a:t>
            </a: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  If a sentence seems excessively long, it is potentially a run-on or comma splice.  The answer choices often contain commas or semicolons in different location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Misplaced Modifier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6186600" cy="29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1" lang="en-US" sz="2400" spc="-1" strike="noStrike">
                <a:solidFill>
                  <a:srgbClr val="ff7f2e"/>
                </a:solidFill>
                <a:latin typeface="Verdana"/>
              </a:rPr>
              <a:t>misplaced modifier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is a modifying phrase or word that has wandered too far away from what it is supposed to be modifying, leaving it confusing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99090e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90e"/>
                </a:solidFill>
                <a:latin typeface="Verdana"/>
              </a:rPr>
              <a:t>Adam bought ice cream for his students </a:t>
            </a:r>
            <a:r>
              <a:rPr b="1" lang="en-US" sz="2000" spc="-1" strike="noStrike">
                <a:solidFill>
                  <a:srgbClr val="99090e"/>
                </a:solidFill>
                <a:latin typeface="Verdana"/>
              </a:rPr>
              <a:t>with chocolate sprinkle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09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o the students have chocolate sprinkles or does the ice cream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94920" y="1752120"/>
            <a:ext cx="618660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7f2e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f2e"/>
                </a:solidFill>
                <a:latin typeface="Verdana"/>
              </a:rPr>
              <a:t>Correctly Stat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am bought ice cream </a:t>
            </a:r>
            <a:r>
              <a:rPr b="1" lang="en-US" sz="2000" spc="-1" strike="noStrike">
                <a:solidFill>
                  <a:srgbClr val="99090e"/>
                </a:solidFill>
                <a:latin typeface="Verdana"/>
              </a:rPr>
              <a:t>with chocolate sprinkle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for his student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f2e"/>
                </a:solidFill>
                <a:latin typeface="Verdana"/>
              </a:rPr>
              <a:t>TIP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Misplaced modifier questions are the only usage/mechanics questions that frequently appear in a format other than the “NO CHANGE” format.  They may ask, “The best placement for the underlined portion would be”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Helpful Hints for During the Exam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t up Straigh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lax and Breath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ake Advantage of the Brea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oncept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914400" y="1523520"/>
            <a:ext cx="411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unctu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omma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Apostrophe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olon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Parenthesis and Dashe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ombo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rammar and Usag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Grammatical Agreemen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Verb Tens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Pronoun Form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Modifier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Idiom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2059200" y="1371600"/>
            <a:ext cx="420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age and Mechan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4952880" y="259092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4648320" y="2514600"/>
            <a:ext cx="331128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tence Stru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Sentence Frag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Run-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mma Spl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isplaces Modifi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Shifts in Constru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Helpful Hints for Before the Exam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st Wel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at Something……Health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ress in Lay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on’t Frea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End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4" name="Picture 5" descr="THE+END"/>
          <p:cNvPicPr/>
          <p:nvPr/>
        </p:nvPicPr>
        <p:blipFill>
          <a:blip r:embed="rId2"/>
          <a:stretch/>
        </p:blipFill>
        <p:spPr>
          <a:xfrm>
            <a:off x="1612800" y="1998720"/>
            <a:ext cx="591840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oncepts Continued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990720" y="1980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hetorical Skill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rategy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y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ransi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is usage and mechanics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2514240"/>
            <a:ext cx="64771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sage/Mechanics problems test how well you can construct a functional sentence using: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the rules of punctu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grammar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sentence structure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7620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is usage and mechanics?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inu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42640" y="2971800"/>
            <a:ext cx="7010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ver 1/2 of the problems in the English Test are Usage/Mechanics problems. Therefore, every rule that you learn is another tool in your toolbox that will help you solve more Usage/Mechanics problems and ultimately increase your English scor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1760" y="8377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ommas, Commas, and more Comma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66680" y="2209320"/>
            <a:ext cx="70106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unctuation marks are used for more than sideways faces. ;) This next section will teach you the formal rules of punctuation that frequently appear on the ACT English test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Hi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The answer choices will have the same set of words with punctuation marks (sometimes different) in varying locations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ommas, Commas, and more Comma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219320" y="2286000"/>
            <a:ext cx="6705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mmas are meant to create natural pauses in a sentence. When used improperly (i.e. misplaced, too many, or not enough) commas disrupt the flow of the sentence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ommas are the most frequently tested punctuation on the ACT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14:17:49Z</dcterms:created>
  <dc:creator>Buffalo Grove High School</dc:creator>
  <dc:description/>
  <dc:language>en-US</dc:language>
  <cp:lastModifiedBy>Administrator</cp:lastModifiedBy>
  <dcterms:modified xsi:type="dcterms:W3CDTF">2011-02-22T20:48:04Z</dcterms:modified>
  <cp:revision>36</cp:revision>
  <dc:subject/>
  <dc:title>ACT English </dc:title>
</cp:coreProperties>
</file>